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5F3-8E46-4E11-B1C6-31B97C9D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B04-657A-41E2-97B3-D1576D16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D7D-9184-4E48-949B-1F47A3DE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A1B-CD48-4CA3-B3FA-D3B2CB15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371-D3DC-4CA4-A89F-A09A2473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1C2-A8C4-4841-AB9F-24B8AB17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EAF-6577-49C3-8A12-8B561AB6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DF9-A23E-43F5-B061-D380140B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FBF-7A52-40DA-B7A3-2717FDEA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A10-ABDC-4795-B185-5DEBD5DE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EB3-5379-490F-8D68-30B80557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28B-3C0C-494B-98B0-6C1B816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960A-16C5-444B-803F-24C30FB8D4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Verdana"/>
              </a:rPr>
              <a:t>Jingle Danc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676520" y="838080"/>
            <a:ext cx="5981760" cy="1562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regalia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shuffle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dru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lattering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voic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silv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borrow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moccasin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teacher</cp:lastModifiedBy>
  <dcterms:modified xsi:type="dcterms:W3CDTF">2011-05-07T16:22:58Z</dcterms:modified>
  <cp:revision>40</cp:revision>
  <dc:subject/>
  <dc:title>Password</dc:title>
</cp:coreProperties>
</file>